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B6C-5FF4-4F12-86BA-8525E381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061-618D-45AB-88F5-6B46A0F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C37-651A-4CDF-A134-99E2A4C0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58B-A703-4EEF-AF3F-7ED33797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9A41-81D4-4E08-BCE8-A0272219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F9F5-0F48-4DAD-B3C4-9BE66DA5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A4ED-07BD-4A00-9594-C4E91E3A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0DDF-443C-428A-A4C8-86496C70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649F-A628-4B7C-B575-E1AF2B44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8DD3-72BB-495D-B2E5-9ED9A10A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93D4-5EDD-413F-8208-C85524B7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BEA-9D56-40A0-A0A0-6FDBBF34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4385-8024-4EE4-AFCE-836A2DD7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6EF8-D702-4D57-89E0-75F04397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DD91-014E-47F2-B271-535341F9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A562-EA72-4C7A-998A-CE2142C9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8A6A-1EBC-4B0F-84A0-EDB163A6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A16-BFAA-44D7-ADF3-29F523CE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4BA-190D-42CA-A736-5D192398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997-1F95-4826-B508-68E245C1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32C-100A-4CF6-A42A-502FF163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235-58B6-43C2-9761-6EAE4E4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58D-8515-4C1D-A6E6-483786FF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731-4417-48C3-9100-CA654255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C98A-463D-4351-894C-092831CAF9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3CA8-495D-4D73-AF1D-525A632C8A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althy Living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althy Ea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esented 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ordan Delan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utrition Guidel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lthy Eating Pyram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t more vegetable oils and whole grai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t less pasta and white bre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57800" y="2666880"/>
            <a:ext cx="2700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mmended Exerc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minutes of daily moderate-intense exerc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isk wal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arde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22795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xation Techn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iet the mind and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sualize a tranquil set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positive though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d strength and refresh the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e yoga or pil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mprove balance through core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02320" y="2362320"/>
            <a:ext cx="2085840" cy="1785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32640" y="4330800"/>
            <a:ext cx="1825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althy Living 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s blood pressure and choleste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ces heart disease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ps prevent diabe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s 8% of ad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s body we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lps avoid excess g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2465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5:07:25Z</dcterms:created>
  <dc:creator>VUFSD</dc:creator>
  <dc:description/>
  <dc:language>en-US</dc:language>
  <cp:lastModifiedBy>VUFSD</cp:lastModifiedBy>
  <dcterms:modified xsi:type="dcterms:W3CDTF">2009-04-17T15:29:26Z</dcterms:modified>
  <cp:revision>2</cp:revision>
  <dc:subject/>
  <dc:title>Healthy Living Healthy Eating</dc:title>
</cp:coreProperties>
</file>